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338-5922-4F01-B83F-9D035F0A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2B40-A674-4CD7-BE5A-9C88BFF3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015-8021-4418-B86A-5EC558C0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91B-3768-44D0-9FCD-DEB3B311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34E0-B8A2-4DDF-84EC-ACC5F0C8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CEC5-BEB0-4E66-A317-A1909614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8396-7CEB-47D9-93EF-51F330A3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F693-904E-45BC-B34E-1F5C2FFB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02CE-9014-4590-B61C-D4DAF2A7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121C-138F-44D0-A4AF-00327F93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FE26-2B36-4B7E-892A-DFAA2547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B2B0-DB1F-4191-B4FC-8D36F8FD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E69D-132B-4261-80F3-CDF9599F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DCBA-4773-454B-BDD6-C3AF4926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E230-89E0-4D97-90E9-BFDE0402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426E-3A7C-4FF1-AE8E-41904CA5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3712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839040"/>
            <a:ext cx="2428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4CE2-005C-4582-9406-E68E1040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647-0BB5-47D5-969A-4CFAC4F2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7A07-63F0-44D0-A090-37555C07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995-32B8-4ECF-BEDF-1788FE75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DAE-73B9-49B4-B41B-7CDDFF4B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AFF-5A96-4184-A540-0FB229BE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8390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F82-984C-4626-8AA1-9D6B0ED0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371240"/>
            <a:ext cx="368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839040"/>
            <a:ext cx="7543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FCF-AE6A-4E31-B658-58BECB3E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D62F-C269-43A1-93D9-7E2DCAEFD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810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E991-3691-4C49-ADD4-AD0AFCC56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aR0b4QRhfU0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bdbd"/>
                </a:solidFill>
                <a:latin typeface="Arial"/>
              </a:rPr>
              <a:t>Density cont.</a:t>
            </a:r>
            <a:endParaRPr b="0" lang="en-US" sz="40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040" y="32000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nsity = Mass /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the unit g/mL (or g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or chemical proper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ould this happ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e9090"/>
                </a:solidFill>
                <a:uFillTx/>
                <a:latin typeface="Arial"/>
                <a:hlinkClick r:id="rId2"/>
              </a:rPr>
              <a:t>http://www.youtube.com/watch?v=aR0b4QRhfU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acket of Nutrasweet sweetens a drink as much as 3 packets of sug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n of either type of coke has a volume of 355 m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types of Coke have 355 g of non-sweetener materi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et Coke has .1 g of Nutraswe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ke has 39 g of sug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the res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Buoyanc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imedes Principle: Any object, wholly or partly immersed in a fluid, is buoyed up by a force equal to the weight of the fluid displaced by the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whether something sinks or floats depends on how much water it displaces, and since the amount of water it displaces is based upon its density, density influences sinking and floa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Buoyanc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28.3 L) of fresh water has a mass of approximatel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28.30 k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’s say you put an object with a volume of 1 f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to water, and this object has a mas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8.58 k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force is the water pushing up with?  What force is the object pushing down with?  So does it sink or flo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Buoyanc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3bdb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bdbd"/>
                </a:solidFill>
                <a:latin typeface="Arial"/>
              </a:rPr>
              <a:t>1 ft</a:t>
            </a:r>
            <a:r>
              <a:rPr b="0" lang="en-US" sz="3200" spc="-1" strike="noStrike" baseline="30000">
                <a:solidFill>
                  <a:srgbClr val="d3bdbd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d3bdbd"/>
                </a:solidFill>
                <a:latin typeface="Arial"/>
              </a:rPr>
              <a:t> (28.3 L) of fresh water has a mass of approximately 28.30 k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3bd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bdbd"/>
                </a:solidFill>
                <a:latin typeface="Arial"/>
              </a:rPr>
              <a:t>Let’s say you put an object with a volume of 1 ft</a:t>
            </a:r>
            <a:r>
              <a:rPr b="0" lang="en-US" sz="2800" spc="-1" strike="noStrike" baseline="30000">
                <a:solidFill>
                  <a:srgbClr val="d3bdbd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d3bdbd"/>
                </a:solidFill>
                <a:latin typeface="Arial"/>
              </a:rPr>
              <a:t> into water, and this object has a mass of 28.58 k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d3bdbd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3bdbd"/>
                </a:solidFill>
                <a:latin typeface="Arial"/>
              </a:rPr>
              <a:t>What force is the water pushing up with?  What force is the object pushing down with?  So does it sink or flo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say you put that object in salt water, 1 f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which has a mass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9.0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force is the water pushing up with?  What force is the object pushing down with?  So does it sink or flo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y of Archime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ound 250 B.C., the Greek mathematician Archimedes was given the task of determining whether a crown that had been fashioned for the King of Syracuse was really made of pure gold. He wrestled with the problem as he relaxed into a bathing pool, and when he saw water spill over the edge of the pool upon submerging himself, arrived at his answ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y of Archime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3bd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3bdbd"/>
                </a:solidFill>
                <a:latin typeface="Arial"/>
              </a:rPr>
              <a:t>Around 250 B.C., the Greek mathematician Archimedes was given the task of determining whether a crown that had been fashioned for the King of Syracuse was really made of pure gold. He wrestled with the problem as he relaxed into a bathing pool, and when he saw water spill over the edge of the pool upon submerging himself, arrived at his answ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qual mass of silver occupies more space than gold, therefore, a mixed silver and gold crown would displace more water than a pure gold crow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ould you use water, gold, and silver to figure out if the crown is pure gol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y of Archime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3bd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3bdbd"/>
                </a:solidFill>
                <a:latin typeface="Arial"/>
              </a:rPr>
              <a:t>Around 250 B.C., the Greek mathematician Archimedes was given the task of determining whether a crown that had been fashioned for the King of Syracuse was really made of pure gold. He wrestled with the problem as he relaxed into a bathing pool, and when he saw water spill over the edge of the pool upon submerging himself, arrived at his answ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qual mass of silver occupies more space than gold, therefore, a mixed silver and gold crown would displace more water than a pure gold crown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placed the test crown in one tub of water and a hunk of pure gold with the exact same mass in another.  More water was displaced by the test crown; the king had been defrauded by the craftsm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dens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you use the density formula to solve for missing valu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morrow: we continue our long-standing thread of examining physical and chemical properties by finally zooming in on why different things have different properties…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 Practice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Homework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density formula to solve for missing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a Lava Lamp 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density have to do with floa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30387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ould be the possible uses of knowing something’s dens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ss is the amount of matter that something has.  It is not the same thing as we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Volume is the amount of space that something takes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mass?  Same volume?  Same dens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95280" y="3657600"/>
            <a:ext cx="63849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mass?  Volume?  Dens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733920"/>
            <a:ext cx="1371600" cy="1523880"/>
          </a:xfrm>
          <a:prstGeom prst="cube">
            <a:avLst>
              <a:gd name="adj" fmla="val 25000"/>
            </a:avLst>
          </a:prstGeom>
          <a:solidFill>
            <a:srgbClr val="ae4c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2743200"/>
            <a:ext cx="2971800" cy="2971800"/>
          </a:xfrm>
          <a:prstGeom prst="cube">
            <a:avLst>
              <a:gd name="adj" fmla="val 25000"/>
            </a:avLst>
          </a:prstGeom>
          <a:solidFill>
            <a:srgbClr val="ae4c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41148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19720"/>
            <a:ext cx="38124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495680"/>
            <a:ext cx="380880" cy="38124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191120"/>
            <a:ext cx="38124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48006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876920"/>
            <a:ext cx="38124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19112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45720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45720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0292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3657600"/>
            <a:ext cx="38124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3581280"/>
            <a:ext cx="380880" cy="38124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bdbd"/>
                </a:solidFill>
                <a:latin typeface="Arial"/>
              </a:rPr>
              <a:t>Density</a:t>
            </a:r>
            <a:endParaRPr b="0" lang="en-US" sz="4200" spc="-1" strike="noStrike">
              <a:solidFill>
                <a:srgbClr val="d3bdb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mass?  Volume?  Densi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733920"/>
            <a:ext cx="1371600" cy="1523880"/>
          </a:xfrm>
          <a:prstGeom prst="cube">
            <a:avLst>
              <a:gd name="adj" fmla="val 25000"/>
            </a:avLst>
          </a:prstGeom>
          <a:solidFill>
            <a:srgbClr val="ae4c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124080"/>
            <a:ext cx="2362320" cy="2590920"/>
          </a:xfrm>
          <a:prstGeom prst="cube">
            <a:avLst>
              <a:gd name="adj" fmla="val 25000"/>
            </a:avLst>
          </a:prstGeom>
          <a:solidFill>
            <a:srgbClr val="ae4c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419112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48006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876920"/>
            <a:ext cx="38124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41972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457200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952880"/>
            <a:ext cx="380880" cy="38124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5029200"/>
            <a:ext cx="38124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962520"/>
            <a:ext cx="380880" cy="38088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4038480"/>
            <a:ext cx="381240" cy="381240"/>
          </a:xfrm>
          <a:prstGeom prst="ellipse">
            <a:avLst/>
          </a:prstGeom>
          <a:solidFill>
            <a:srgbClr val="e1190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6:00:04Z</dcterms:created>
  <dc:creator>Rebecca Stang</dc:creator>
  <dc:description/>
  <dc:language>en-US</dc:language>
  <cp:lastModifiedBy>Rebecca Stang</cp:lastModifiedBy>
  <dcterms:modified xsi:type="dcterms:W3CDTF">2009-10-27T13:58:42Z</dcterms:modified>
  <cp:revision>49</cp:revision>
  <dc:subject/>
  <dc:title>PowerPoint Presentation</dc:title>
</cp:coreProperties>
</file>